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72F-0308-47FD-817A-D356A2BE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DE0-906F-4CF9-B294-9B5B4D64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1F79-A788-4BCB-AA92-619AC741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458-A496-4E7E-AD76-CE08CDD4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3EE-87B4-40B0-AB03-C45C89F0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7EB3-D059-4EF4-8D39-58BDAC50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17E-7DF1-4650-9B81-BEF9E1BF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A406-4E24-40A2-8A79-E2BF1B19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EDCE-4598-4A4E-B5C6-0D8BDD3C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95BA-98BD-485D-8EB5-9AABE407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14D-3D52-4E6B-8EBC-AABA12ED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38A6-5EFC-433E-B029-9E76BACC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FE09-8716-4BE3-B167-E5BA72A6EF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0004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5050"/>
                </a:solidFill>
                <a:latin typeface="Times New Roman"/>
              </a:rPr>
              <a:t>Тема: Преобразования графиков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31640" y="2058840"/>
            <a:ext cx="8893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68360" y="4795920"/>
            <a:ext cx="8893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550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551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552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559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564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567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568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9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570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571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578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82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583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584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8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589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0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95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597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598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605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609" name="Object 62"/>
          <p:cNvGraphicFramePr/>
          <p:nvPr/>
        </p:nvGraphicFramePr>
        <p:xfrm>
          <a:off x="4046400" y="1951200"/>
          <a:ext cx="1419480" cy="21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0" y="1951200"/>
                    <a:ext cx="1419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Rectangle 63"/>
          <p:cNvSpPr/>
          <p:nvPr/>
        </p:nvSpPr>
        <p:spPr>
          <a:xfrm>
            <a:off x="1692360" y="1413000"/>
            <a:ext cx="23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+a), a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17702E-006 L -0.08663 -1.17702E-006 E">
                                      <p:cBhvr>
                                        <p:cTn id="95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4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3957480" cy="24289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2"/>
          <a:stretch/>
        </p:blipFill>
        <p:spPr>
          <a:xfrm>
            <a:off x="5429160" y="3571920"/>
            <a:ext cx="2928960" cy="26622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"/>
          <p:cNvPicPr/>
          <p:nvPr/>
        </p:nvPicPr>
        <p:blipFill>
          <a:blip r:embed="rId3"/>
          <a:stretch/>
        </p:blipFill>
        <p:spPr>
          <a:xfrm>
            <a:off x="5286240" y="571680"/>
            <a:ext cx="3483000" cy="2571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"/>
          <p:cNvPicPr/>
          <p:nvPr/>
        </p:nvPicPr>
        <p:blipFill>
          <a:blip r:embed="rId4"/>
          <a:stretch/>
        </p:blipFill>
        <p:spPr>
          <a:xfrm>
            <a:off x="642960" y="3220920"/>
            <a:ext cx="345276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4" descr=""/>
          <p:cNvPicPr/>
          <p:nvPr/>
        </p:nvPicPr>
        <p:blipFill>
          <a:blip r:embed="rId1"/>
          <a:stretch/>
        </p:blipFill>
        <p:spPr>
          <a:xfrm>
            <a:off x="5357880" y="357120"/>
            <a:ext cx="3181320" cy="25718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" descr=""/>
          <p:cNvPicPr/>
          <p:nvPr/>
        </p:nvPicPr>
        <p:blipFill>
          <a:blip r:embed="rId2"/>
          <a:stretch/>
        </p:blipFill>
        <p:spPr>
          <a:xfrm>
            <a:off x="214200" y="571680"/>
            <a:ext cx="4572000" cy="18367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" descr=""/>
          <p:cNvPicPr/>
          <p:nvPr/>
        </p:nvPicPr>
        <p:blipFill>
          <a:blip r:embed="rId3"/>
          <a:stretch/>
        </p:blipFill>
        <p:spPr>
          <a:xfrm>
            <a:off x="5286240" y="3286080"/>
            <a:ext cx="3613320" cy="30272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"/>
          <p:cNvPicPr/>
          <p:nvPr/>
        </p:nvPicPr>
        <p:blipFill>
          <a:blip r:embed="rId4"/>
          <a:stretch/>
        </p:blipFill>
        <p:spPr>
          <a:xfrm>
            <a:off x="357120" y="3643200"/>
            <a:ext cx="45007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45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46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47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54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59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62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63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65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66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73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7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78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79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84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90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92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93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100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04" name="Object 62"/>
          <p:cNvGraphicFramePr/>
          <p:nvPr/>
        </p:nvGraphicFramePr>
        <p:xfrm>
          <a:off x="4029120" y="1951200"/>
          <a:ext cx="1419120" cy="21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29120" y="1951200"/>
                    <a:ext cx="141912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63"/>
          <p:cNvSpPr/>
          <p:nvPr/>
        </p:nvSpPr>
        <p:spPr>
          <a:xfrm>
            <a:off x="2833560" y="1455840"/>
            <a:ext cx="1162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108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109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110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117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122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125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126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128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129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136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0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141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142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147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3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155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156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163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67" name="Object 62"/>
          <p:cNvGraphicFramePr/>
          <p:nvPr/>
        </p:nvGraphicFramePr>
        <p:xfrm>
          <a:off x="4368960" y="981000"/>
          <a:ext cx="75852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8960" y="981000"/>
                    <a:ext cx="75852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63"/>
          <p:cNvSpPr/>
          <p:nvPr/>
        </p:nvSpPr>
        <p:spPr>
          <a:xfrm>
            <a:off x="1835280" y="692280"/>
            <a:ext cx="2592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kf(x), k&g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171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172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173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180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185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188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189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0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191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192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199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3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204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205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210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16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218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219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226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30" name="Object 62"/>
          <p:cNvGraphicFramePr/>
          <p:nvPr/>
        </p:nvGraphicFramePr>
        <p:xfrm>
          <a:off x="3000240" y="2433600"/>
          <a:ext cx="344340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2433600"/>
                    <a:ext cx="344340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63"/>
          <p:cNvSpPr/>
          <p:nvPr/>
        </p:nvSpPr>
        <p:spPr>
          <a:xfrm>
            <a:off x="611280" y="1959120"/>
            <a:ext cx="2592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kf(x), 0&lt;k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234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235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236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243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248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251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3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254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255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262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6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267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268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273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79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281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282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289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93" name="Object 62"/>
          <p:cNvGraphicFramePr/>
          <p:nvPr/>
        </p:nvGraphicFramePr>
        <p:xfrm>
          <a:off x="4030560" y="1951200"/>
          <a:ext cx="1419480" cy="21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1951200"/>
                    <a:ext cx="1419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63"/>
          <p:cNvSpPr/>
          <p:nvPr/>
        </p:nvSpPr>
        <p:spPr>
          <a:xfrm>
            <a:off x="2125800" y="1527120"/>
            <a:ext cx="237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500040" y="21420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раллельный перенос графиков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298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299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300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307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312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315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316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318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319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326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0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331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332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337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43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345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346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353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357" name="Object 62"/>
          <p:cNvGraphicFramePr/>
          <p:nvPr/>
        </p:nvGraphicFramePr>
        <p:xfrm>
          <a:off x="4030560" y="1957320"/>
          <a:ext cx="1419480" cy="21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1957320"/>
                    <a:ext cx="141948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Rectangle 63"/>
          <p:cNvSpPr/>
          <p:nvPr/>
        </p:nvSpPr>
        <p:spPr>
          <a:xfrm>
            <a:off x="1547640" y="1197000"/>
            <a:ext cx="237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+b, b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60704E-006 L 4.16667E-006 -0.09452 E">
                                      <p:cBhvr>
                                        <p:cTn id="54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361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362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363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370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4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375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378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379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0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381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382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389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3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394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395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400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06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408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409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416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420" name="Object 62"/>
          <p:cNvGraphicFramePr/>
          <p:nvPr/>
        </p:nvGraphicFramePr>
        <p:xfrm>
          <a:off x="4030560" y="1957320"/>
          <a:ext cx="1419480" cy="21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1957320"/>
                    <a:ext cx="141948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63"/>
          <p:cNvSpPr/>
          <p:nvPr/>
        </p:nvSpPr>
        <p:spPr>
          <a:xfrm>
            <a:off x="1763640" y="2492280"/>
            <a:ext cx="237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+b, b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60704E-006 L 4.16667E-006 0.14714 E">
                                      <p:cBhvr>
                                        <p:cTn id="64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424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425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426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433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7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438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441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442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3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444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445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452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6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457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458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463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69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471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472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479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483" name="Object 62"/>
          <p:cNvGraphicFramePr/>
          <p:nvPr/>
        </p:nvGraphicFramePr>
        <p:xfrm>
          <a:off x="4030560" y="1951200"/>
          <a:ext cx="1419480" cy="21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1951200"/>
                    <a:ext cx="1419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833560" y="1455480"/>
            <a:ext cx="11620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487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488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489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496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0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501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504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505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6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507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508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515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9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520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521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526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32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534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535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542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546" name="Object 62"/>
          <p:cNvGraphicFramePr/>
          <p:nvPr/>
        </p:nvGraphicFramePr>
        <p:xfrm>
          <a:off x="4029120" y="1941480"/>
          <a:ext cx="1419120" cy="21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29120" y="1941480"/>
                    <a:ext cx="141912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63"/>
          <p:cNvSpPr/>
          <p:nvPr/>
        </p:nvSpPr>
        <p:spPr>
          <a:xfrm>
            <a:off x="1692360" y="1413000"/>
            <a:ext cx="23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+a), a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-1.3531E-006 L 0.09444 -1.3531E-006 E">
                                      <p:cBhvr>
                                        <p:cTn id="85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5:00:52Z</dcterms:created>
  <dc:creator>Artem</dc:creator>
  <dc:description/>
  <dc:language>en-US</dc:language>
  <cp:lastModifiedBy>1</cp:lastModifiedBy>
  <dcterms:modified xsi:type="dcterms:W3CDTF">2013-01-09T06:09:52Z</dcterms:modified>
  <cp:revision>22</cp:revision>
  <dc:subject/>
  <dc:title>Слайд 1</dc:title>
</cp:coreProperties>
</file>